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19D-329B-49E2-9F78-8F0B4D3E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988-7521-4710-A54E-3161067B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DA6C-3B6C-497F-B495-9DE4F312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07C-16BD-4AEF-99BC-FC5C081E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0A1-82B4-46C8-9FC0-4AF5BC57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5FF-B593-407F-BB1B-FFE578F0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D91-7F44-4CEC-AF16-58B1FD2E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EB3-C5BB-4074-8AC2-7356DCA7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702-94EC-4B01-A925-F13AD621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928-074E-4E21-A07D-AC30A514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C30-0B22-473C-86C6-CE496E0B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82E-F8FB-4A07-BEFB-D7235E76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588B-E30C-4D57-95F9-9FCAFFB3B1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1" descr=""/>
          <p:cNvPicPr/>
          <p:nvPr/>
        </p:nvPicPr>
        <p:blipFill>
          <a:blip r:embed="rId1"/>
          <a:stretch/>
        </p:blipFill>
        <p:spPr>
          <a:xfrm>
            <a:off x="95400" y="549360"/>
            <a:ext cx="8953200" cy="57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5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Roles and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280" y="5157720"/>
            <a:ext cx="7775640" cy="1479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Working Relationshi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Image result for clip art - working relationships"/>
          <p:cNvPicPr/>
          <p:nvPr/>
        </p:nvPicPr>
        <p:blipFill>
          <a:blip r:embed="rId1"/>
          <a:stretch/>
        </p:blipFill>
        <p:spPr>
          <a:xfrm>
            <a:off x="1979640" y="1341360"/>
            <a:ext cx="509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649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ny entrepreneurs set up their enterprise as a one-person operation but gradually build a successful team around them as the business exp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4220640"/>
            <a:ext cx="8229600" cy="2365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atch the video clip from Big Ideas Wales – Annette Ch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orking in pai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dentify the skills/roles needed for a successful business ven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har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your ideas with the people sitting in front of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kills/roles needed for a successful business 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Content Placeholder 11268"/>
          <p:cNvGrpSpPr/>
          <p:nvPr/>
        </p:nvGrpSpPr>
        <p:grpSpPr>
          <a:xfrm>
            <a:off x="2041920" y="1765440"/>
            <a:ext cx="4880520" cy="4644000"/>
            <a:chOff x="2041920" y="1765440"/>
            <a:chExt cx="4880520" cy="4644000"/>
          </a:xfrm>
        </p:grpSpPr>
        <p:sp>
          <p:nvSpPr>
            <p:cNvPr id="49" name="_s1028"/>
            <p:cNvSpPr/>
            <p:nvPr/>
          </p:nvSpPr>
          <p:spPr>
            <a:xfrm>
              <a:off x="3192120" y="1765440"/>
              <a:ext cx="2577960" cy="2578320"/>
            </a:xfrm>
            <a:custGeom>
              <a:avLst/>
              <a:gdLst>
                <a:gd name="textAreaLeft" fmla="*/ 0 w 2577960"/>
                <a:gd name="textAreaRight" fmla="*/ 2578320 w 2577960"/>
                <a:gd name="textAreaTop" fmla="*/ 0 h 2578320"/>
                <a:gd name="textAreaBottom" fmla="*/ 2578320 h 25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29"/>
            <p:cNvSpPr/>
            <p:nvPr/>
          </p:nvSpPr>
          <p:spPr>
            <a:xfrm rot="4320000">
              <a:off x="4009320" y="2359800"/>
              <a:ext cx="2577960" cy="2577600"/>
            </a:xfrm>
            <a:custGeom>
              <a:avLst/>
              <a:gdLst>
                <a:gd name="textAreaLeft" fmla="*/ 0 w 2577960"/>
                <a:gd name="textAreaRight" fmla="*/ 2578320 w 2577960"/>
                <a:gd name="textAreaTop" fmla="*/ 0 h 2577600"/>
                <a:gd name="textAreaBottom" fmla="*/ 2577600 h 25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0"/>
            <p:cNvSpPr/>
            <p:nvPr/>
          </p:nvSpPr>
          <p:spPr>
            <a:xfrm rot="8640000">
              <a:off x="3695760" y="3319560"/>
              <a:ext cx="2577600" cy="2578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 rot="12960000">
              <a:off x="2686680" y="3317760"/>
              <a:ext cx="2577600" cy="2577960"/>
            </a:xfrm>
            <a:custGeom>
              <a:avLst/>
              <a:gdLst>
                <a:gd name="textAreaLeft" fmla="*/ 0 w 2577600"/>
                <a:gd name="textAreaRight" fmla="*/ 2577600 w 2577600"/>
                <a:gd name="textAreaTop" fmla="*/ 0 h 2577960"/>
                <a:gd name="textAreaBottom" fmla="*/ 2578320 h 25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2"/>
            <p:cNvSpPr/>
            <p:nvPr/>
          </p:nvSpPr>
          <p:spPr>
            <a:xfrm rot="17280000">
              <a:off x="2376720" y="2357640"/>
              <a:ext cx="2578320" cy="2577960"/>
            </a:xfrm>
            <a:custGeom>
              <a:avLst/>
              <a:gdLst>
                <a:gd name="textAreaLeft" fmla="*/ 0 w 2578320"/>
                <a:gd name="textAreaRight" fmla="*/ 2578320 w 2578320"/>
                <a:gd name="textAreaTop" fmla="*/ 0 h 2577960"/>
                <a:gd name="textAreaBottom" fmla="*/ 2578320 h 25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5142600" y="1875240"/>
              <a:ext cx="9478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Production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Skil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>
              <a:off x="2168280" y="4035960"/>
              <a:ext cx="947880" cy="9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Sales and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Marketing Skill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5"/>
            <p:cNvSpPr/>
            <p:nvPr/>
          </p:nvSpPr>
          <p:spPr>
            <a:xfrm>
              <a:off x="2872080" y="1875240"/>
              <a:ext cx="9478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Management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Skill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6"/>
            <p:cNvSpPr/>
            <p:nvPr/>
          </p:nvSpPr>
          <p:spPr>
            <a:xfrm>
              <a:off x="5846040" y="4035960"/>
              <a:ext cx="947880" cy="9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Finan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Skil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7"/>
            <p:cNvSpPr/>
            <p:nvPr/>
          </p:nvSpPr>
          <p:spPr>
            <a:xfrm>
              <a:off x="4007160" y="5373000"/>
              <a:ext cx="947880" cy="9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Promotional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Skill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ob Roles and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ing the role cards in the enve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 the roles that you consider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mportant for your business ven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reate an organisation chart for your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Content Placeholder 5124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63" name="_s2052"/>
            <p:cNvCxnSpPr>
              <a:stCxn id="64" idx="0"/>
              <a:endCxn id="65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2053"/>
            <p:cNvCxnSpPr>
              <a:stCxn id="67" idx="0"/>
              <a:endCxn id="65" idx="2"/>
            </p:cNvCxnSpPr>
            <p:nvPr/>
          </p:nvCxnSpPr>
          <p:spPr>
            <a:xfrm flipV="1">
              <a:off x="4571280" y="3409200"/>
              <a:ext cx="324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2054"/>
            <p:cNvCxnSpPr>
              <a:stCxn id="69" idx="0"/>
              <a:endCxn id="65" idx="2"/>
            </p:cNvCxnSpPr>
            <p:nvPr/>
          </p:nvCxnSpPr>
          <p:spPr>
            <a:xfrm flipH="1" flipV="1" rot="5400000">
              <a:off x="2678760" y="242172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5" name="_s2055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2056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057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2058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58910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ing the results of the skills audit/ any other test that has identified skills and abilities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 Identify possible roles that match your skills and abilities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Identify any role/roles that cannot be adequately filled due to a lack of necessary skills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Explain how this difficulty might be over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95280" y="549360"/>
          <a:ext cx="8229600" cy="5656320"/>
        </p:xfrm>
        <a:graphic>
          <a:graphicData uri="http://schemas.openxmlformats.org/drawingml/2006/table">
            <a:tbl>
              <a:tblPr/>
              <a:tblGrid>
                <a:gridCol w="2743200"/>
                <a:gridCol w="3449520"/>
                <a:gridCol w="20368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kills/Qual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les and Mark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cretary and human resour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ggestions for additional suppor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8800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te the sheet you have b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iven to reflect on the way in which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ve identified the role/roles most sui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Image result for clip art - working relationships"/>
          <p:cNvPicPr/>
          <p:nvPr/>
        </p:nvPicPr>
        <p:blipFill>
          <a:blip r:embed="rId1"/>
          <a:stretch/>
        </p:blipFill>
        <p:spPr>
          <a:xfrm>
            <a:off x="5565600" y="4505400"/>
            <a:ext cx="31672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9:45:58Z</dcterms:created>
  <dc:creator>Home</dc:creator>
  <dc:description/>
  <dc:language>en-US</dc:language>
  <cp:lastModifiedBy> </cp:lastModifiedBy>
  <dcterms:modified xsi:type="dcterms:W3CDTF">2015-08-27T15:32:46Z</dcterms:modified>
  <cp:revision>45</cp:revision>
  <dc:subject/>
  <dc:title>Slide 1</dc:title>
</cp:coreProperties>
</file>